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DCD-1E48-45AC-934B-2C1E3BEF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9F0A-41F3-4A43-A4DF-A6EE1226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7F5-027A-4F6F-AD2D-C6FEEB1F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DBA-ED6C-43A2-BE32-354A0061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750-A2EB-4B9B-B2DE-F005C8111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60B8-72F7-40CA-90A8-97CEB9AB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FD6-95BF-4DF5-AB28-173D1C92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31B1-CC0B-46CF-BEC3-A86D08D8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A4C-5B0A-44FD-88BC-376A7F6A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CB8E-B090-42B6-8AA2-A2D6CF23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7415-6E10-4D89-8B7C-A5175EC1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3D3-4C2A-4668-8BCA-10EA0C6E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3522-E1E9-4A9A-9B63-EC04DC8F3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zym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Lab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 How many clean test tubes will be needed for Day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  How much liver will be needed for each part of the experi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 0.3 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  How much peroxide is needed for each part of the experi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  What precaution must be taken at the end of Part 2, so that you do not have to do the entire experiment o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the material from th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  What is the value of testing sand and peroxide in Part 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control - to see whether or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d reacts with hydro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Define Activation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energy required to start a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What effect does an enzyme or catalyst have on the activation ener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nzyme or cataly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activation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What is the enzyme used in this experi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l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From what source is the enzyme obtai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r or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 What substance does the enzyme act up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 peroxide (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 What gases could be produced when peroxide is broken dow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 or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 How will we determine which of the two gases it 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the test described in Part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a2ff"/>
            </a:gs>
            <a:gs pos="50000">
              <a:srgbClr val="ffffff"/>
            </a:gs>
            <a:gs pos="100000">
              <a:srgbClr val="2ea2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 How can you measure how fast the break-down of peroxide is taking pl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 the reaction rate &amp; graph the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20:40:49Z</dcterms:created>
  <dc:creator>NHS NPS</dc:creator>
  <dc:description/>
  <dc:language>en-US</dc:language>
  <cp:lastModifiedBy>NHS NPS</cp:lastModifiedBy>
  <dcterms:modified xsi:type="dcterms:W3CDTF">2011-12-12T20:52:44Z</dcterms:modified>
  <cp:revision>1</cp:revision>
  <dc:subject/>
  <dc:title>Enzyme Lab</dc:title>
</cp:coreProperties>
</file>